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9A63-0540-4EE6-8291-8A4ECBB5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A8CF-FD1D-40FB-AB7F-5F7DE920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0A50-CD85-46C6-B48E-32532434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893A-0512-4076-838D-D5E34D2F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6F2F-E18B-42A6-951A-590A70CF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AA9B-EF82-4317-922C-692A7B38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A3A5-4D40-4DCF-8413-458622C7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B7C5-0974-43B0-84D4-C66A05AA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A04A-6039-475B-BFC2-47ED7057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FF9E-3919-49D9-B0C9-929E7CA8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B428-E512-4A3A-B50A-2FECFF98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784C-090D-45CD-A25F-19A66278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DAA2CB-F678-4C13-BD64-0C93625417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0CA06-839D-4656-9067-F56717C10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eriodic 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Grade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iodic Table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eriodic Table of _______________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an elem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es an atom look like? Can you label its par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the rows on the periodic table call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the columns on the periodic table call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ncinnati Sky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Cincinnati Skyline.jpg"/>
          <p:cNvPicPr/>
          <p:nvPr/>
        </p:nvPicPr>
        <p:blipFill>
          <a:blip r:embed="rId1"/>
          <a:srcRect l="-16115" t="0" r="-1611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iodic Table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Zones on the Periodic Table (pg. 9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other zones we know abou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the periodic table color-cod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e the Periodic Table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Why do we use the word family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08:13:00Z</dcterms:created>
  <dc:creator>Cleophis Carson</dc:creator>
  <dc:description/>
  <dc:language>en-US</dc:language>
  <cp:lastModifiedBy>Cleophis Carson</cp:lastModifiedBy>
  <dcterms:modified xsi:type="dcterms:W3CDTF">2011-09-29T09:31:04Z</dcterms:modified>
  <cp:revision>1</cp:revision>
  <dc:subject/>
  <dc:title>The Periodic Table</dc:title>
</cp:coreProperties>
</file>